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  <p:sldId id="27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slide" Target="slides/slide1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C3EF-84B9-4327-9A2C-029D4EBED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7F5-5AF7-411D-9D58-010A012D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06C1E7-55CA-4D2F-AD13-549D09AD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9D6F51-8F96-4EC0-9D0D-AF69BA22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931809-A6D6-4455-9437-11AF5915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F2C513-1313-4D18-BFE1-35B2861B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EDFC73-EA89-4E8F-B912-FA69ACEF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9D13C4-C9B7-464B-904C-C4BEF4D2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24C93E-E4C7-4908-A0D3-8F30B5BC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05F3B1-8A62-4361-90AA-0166C5D2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E0DF64-7CAD-430C-A39B-BFF259BE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799915-71C1-409F-BABD-E32E4BB57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62E-65DB-4321-A32B-5FB29994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0A6154-7141-4BE5-85A2-C04F495E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DAFD77-B058-4F29-84F4-398C8231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B1446-F970-436F-ACB2-269335A2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70418E-CD9A-48AB-8150-EA81E283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32949-1A66-4380-9CFF-DB6AE12D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34DF6-BB77-4421-AE4A-5373C9C2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505D0D-A7D4-4533-825C-4C13AB46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9D60A7-473C-4694-9516-38896C21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4D6BDD-0B6F-45EA-9D53-EE77C8A3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51B5A2-4085-469D-A6C3-20CBC39B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BFDC-E72B-4DB9-AABB-4923017B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D1F3F0-1110-4F03-A8AB-63878F74C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4A2DD-A0DA-4668-80B6-97562259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E5875D-C8B3-4722-BED0-02AA2908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C2789-2577-479E-AE38-31B352D2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D1723-840A-49C7-BAB5-058D174D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44E03-48F9-46FE-BE10-B455D8F6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65CCB3-726D-4FB9-83AD-AD6D937B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4E28FE-8509-4F72-A723-1F3C5DC68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EB303-E32D-4E94-A598-C679EB29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EF8620-28DB-4304-9938-2E32F89E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4483-CB75-4C8C-8026-8A92BFCD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DFC70F-FE3D-4952-8B2B-E78DE21E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02F255-8F4E-4019-96F7-8FC119D0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B057E5-4B4F-436E-8A05-23511A0D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6B82DC-55D7-44EB-878D-93E039CF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6AA8CF-70FF-4C87-8F71-F2313307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B611D3-A1DF-4D01-AE6B-D564B632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4F4C9D-58EB-4427-B67B-61D5A829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0E720C-721B-4A18-95BB-A9957BA4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E9AAD1-AAC1-4772-9954-3FDBBF17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AFEC09-F02C-468C-9CE3-1E0C8299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9E48-6F8C-4CCA-BD8F-5F07242A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6ED116-C37C-4FC2-9145-4159AC1E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8F11CD-CC43-43C9-951F-6E454169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0AE755-45F1-4E28-99CE-F5BD7CFC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BA3278-4BA7-46CE-A5A3-5ECE7F8D4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71CD59-88CC-4598-9114-4D9980E5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DFBE64-644D-4CC6-A950-33C27D66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D40945-EA20-4C15-A897-6C082564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721A09-D85D-4CAF-A846-18D0B2ED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FFDE36-5BB1-4301-A7D3-485768ED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1286C6-C201-4A41-A35B-CDBFE8A8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9CA5-45EC-45AE-85CC-B131DC15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DAC06D-4DA8-436B-8929-9ED7195B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F6BF86-DA54-419B-9D9B-86737225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5561C3-89D1-43CE-96EF-F2CDC12B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F7411F-7FB5-41CD-B28E-F11C67B0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E11198-3EB3-4D9A-8CBB-D4570738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7F000-72A5-450F-8EF4-F9AEB8A0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B85A5C-3C04-46A1-AF15-26B99EDE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BAC2334-FC85-43BB-AE7F-C60369D8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23CB8A-DFAC-4E4B-BE9F-C44AFF3C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E8A7FF-5C90-494B-A7ED-D28691FC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1E2B-2CEE-4679-B3AB-08C9CFF0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3AF4544-E840-42C9-95CB-013183F9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80DDFF-3302-4228-915F-C18D14E3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881E36-3208-4227-B44F-C3AFB00F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13F08A-D561-4412-BB07-5A5D1F04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CBE9F1-E176-492F-8721-BA0D4E58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DFF121-BA42-4C84-9487-261C5710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13A06F-7308-46FC-BD8A-939498F2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B1F413-89B1-403B-9542-2C683B66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FE353C-B582-4E1B-9143-01451EE0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5AF3-62AE-4100-8F2C-82F1FF07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A4C8-F84D-48E9-A7AC-8A088433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0BC1-0769-4DA3-BF12-176830F6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554D-D502-45F9-A952-FA931353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30F6-994D-42C8-8567-C78091F5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CACE-11A5-40D3-99BF-D2776DD3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F52C-2F11-4389-9571-611C1D33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33E9-C4F9-4688-AD8B-81043218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B0D5-7929-479C-AF94-B2CB8D19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DCA-EC15-4375-AAF2-09B53D8E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CFF-F6D0-4826-8BF0-7D9411F8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12B9C6-634A-404C-A9EA-7BE00BC1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2B6-E78C-4C93-9EBE-8FB26D3E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FCFEF-B12F-4A9C-AB95-347DB845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302654-023D-4ECD-89C3-6163EB04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B6E36E-30D0-464E-9023-5DFBAF00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14A950-D3F7-4A04-960A-B733A53B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19F8D6-2451-4BB7-A254-0ACBCD31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D23DE-13D8-41C5-8BAF-F8712C92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5DDAD-79FC-41D8-9DED-B86DD4AB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47E2C8-1F2A-49B1-AB69-F955FC59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20F1D9-0888-4F74-AC74-B53EA2AF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D2B36F-EF7C-4783-A899-BCF95386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740-DE6A-455D-BE64-4647048A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7161BF-6A34-49DD-BCCF-C3D6123F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E0CF8D-28C8-4147-8EAB-9C88812C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8CD23-C448-46D0-896D-348D1277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625470-B245-43D0-A03F-028B2745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0B3AEED-EE48-4ABF-B6C8-48FE3AF3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A3601A-28A8-45A7-9812-9BC711AA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909ED9-6DDF-4266-BBD1-A036BF6E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0EC028-7D4A-4BE6-9FBC-0C53FB82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6901C20-DEF7-4C42-A492-CAC0202E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66D1D3-C7C4-4EF0-B1D9-45ECDF3D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BB3D-DE82-40D7-AE4E-8C816C3E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CFD45E-4AB8-48FA-BA47-626211E6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A9FF0E-E4DA-4DAE-A739-57A8CC99B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B1E27B-B571-4275-870A-0CFE4BB2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BAB77B-6B38-44CD-B3F3-56F6EC8A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0FF280-CAD1-4778-84F2-70F01FEB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E2A5DE-4F6F-40D4-840B-5444A032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78B4D5-9E4A-4C1C-B5D8-04C30D2B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35A2A7-BFD3-4FDE-A2BB-D015A643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270B7D-26C9-44B2-A596-8CFA4618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DCACF4-4751-452F-9B8E-A45147F0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216-B54C-4935-9726-C233B345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C6EC0A-DF9B-44EA-823E-5BF67C55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739D6E-9C98-41BA-BB5D-9F0BA0EF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8BE267-52D6-429D-A3C5-B1379A1F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61F124-43DC-4B5C-A139-A4FE40DC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46FDE9-93D8-4A07-9355-815067F30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D65EE4-C6BF-4152-B283-33011B1B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3FE405-7C0D-4E39-8C89-ADA55F6D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ED06AF-4A76-41BF-BD46-52E7FCE45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8BF154-508C-48D6-B24D-E3DA350F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2E39FF-9CFF-4A5E-A19D-FF00C7D2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0D9-F2CB-4BF0-A399-A304D2B2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763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242BEF-9D95-4179-AB3F-FED599F7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7B9593-D6AB-4C7E-8EC5-FE9D5332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A3421C-6766-482C-A4D6-52BE500C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540A8E-3167-4914-AE69-163282DB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6363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CDD3E7-3F7B-4CA6-BDF0-DC412675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636360"/>
            <a:ext cx="40158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6C8FA8-51C2-42B2-89D5-B4B367169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636360"/>
            <a:ext cx="264960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ACD653-885B-4E49-B747-3C462CE9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2E46BF-485F-4603-A2E8-3E69171B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BDD0D7-E475-4A2B-BDA4-674636E0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03F042-9461-4540-BD07-213AFE32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AC29-CB00-430C-AE4C-52D1362CA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CD89-B951-4776-8A8E-A26285279E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698D-C047-45B8-890A-1355AFE03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A7F3-783C-4283-8EFA-EB37B5015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5606-07F7-43AC-AF79-C1D5D1943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7C1F-F3AB-4E92-A14F-B8F35A762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38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9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ftr" idx="40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ftr" idx="42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93996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AC07-DDC5-4B26-BD80-85C03D670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4200" y="6586560"/>
            <a:ext cx="7239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6666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ftr" idx="43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 type="ftr" idx="44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ftr" idx="45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ftr" idx="46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ftr" idx="4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457200" y="6305040"/>
            <a:ext cx="8305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hapter 18 The Central Endocrine Glands</a:t>
            </a:r>
            <a:br>
              <a:rPr sz="800"/>
            </a:b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Human Physiolog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by Lauralee Sherwood ©2010 Brooks/Cole, Cengage Lear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Sherwood0495391840 copy"/>
          <p:cNvPicPr/>
          <p:nvPr/>
        </p:nvPicPr>
        <p:blipFill>
          <a:blip r:embed="rId2"/>
          <a:stretch/>
        </p:blipFill>
        <p:spPr>
          <a:xfrm>
            <a:off x="457200" y="6318360"/>
            <a:ext cx="361800" cy="463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0"/>
            <a:ext cx="560520" cy="68580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231920" y="6562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© 2004 Pearson Education, Inc., publishing as Benjamin Cumming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116000" y="15519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e Unglaub Silverthorn, Ph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90320" y="353880"/>
            <a:ext cx="5142960" cy="794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MAN</a:t>
            </a:r>
            <a:r>
              <a:rPr b="0" lang="en-US" sz="46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YS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2379600" y="5840280"/>
            <a:ext cx="49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owerPoint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Lecture Slide Presentatio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055520" y="6156360"/>
            <a:ext cx="76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Dr. Howard D. Booth, Professor of Biology, Eastern Michigan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2989800" y="108756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 INTEGRA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762000" y="11448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 H I R D  E D I T I O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3686-9681-42FD-90B8-1042FFA8D6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BB16-941D-4F1B-958C-2401B89FB9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B237-A2C0-421F-9914-73D85AE69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4D36-8070-43D2-91D5-CE4CD4AD8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98360" y="1752480"/>
            <a:ext cx="8686800" cy="39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1" marL="735480" indent="-28296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2" marL="113148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3" marL="158400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4" marL="2036520" indent="-226080">
              <a:lnSpc>
                <a:spcPct val="90000"/>
              </a:lnSpc>
              <a:spcBef>
                <a:spcPts val="145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5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  <a:p>
            <a:pPr lvl="6" marL="2036520" indent="-226080">
              <a:lnSpc>
                <a:spcPct val="90000"/>
              </a:lnSpc>
              <a:spcBef>
                <a:spcPts val="1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3333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3333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480E-30BB-4BE2-B967-1BADFB0D6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4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Rectangle 2"/>
          <p:cNvGrpSpPr/>
          <p:nvPr/>
        </p:nvGrpSpPr>
        <p:grpSpPr>
          <a:xfrm>
            <a:off x="249120" y="195120"/>
            <a:ext cx="8487000" cy="1835280"/>
            <a:chOff x="249120" y="195120"/>
            <a:chExt cx="8487000" cy="1835280"/>
          </a:xfrm>
        </p:grpSpPr>
        <p:pic>
          <p:nvPicPr>
            <p:cNvPr id="1047" name="Rectangle 2" descr=""/>
            <p:cNvPicPr/>
            <p:nvPr/>
          </p:nvPicPr>
          <p:blipFill>
            <a:blip r:embed="rId1"/>
            <a:stretch/>
          </p:blipFill>
          <p:spPr>
            <a:xfrm>
              <a:off x="249120" y="195120"/>
              <a:ext cx="848700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8" name=""/>
            <p:cNvSpPr/>
            <p:nvPr/>
          </p:nvSpPr>
          <p:spPr>
            <a:xfrm>
              <a:off x="609480" y="304920"/>
              <a:ext cx="77724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Arial"/>
                </a:rPr>
                <a:t>OVARIAN HORMONE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9" name="Picture 8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6095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1" name="Rectangle 2"/>
          <p:cNvGrpSpPr/>
          <p:nvPr/>
        </p:nvGrpSpPr>
        <p:grpSpPr>
          <a:xfrm>
            <a:off x="871560" y="-23760"/>
            <a:ext cx="7254720" cy="1444680"/>
            <a:chOff x="871560" y="-23760"/>
            <a:chExt cx="7254720" cy="1444680"/>
          </a:xfrm>
        </p:grpSpPr>
        <p:pic>
          <p:nvPicPr>
            <p:cNvPr id="1082" name="Rectangle 2" descr=""/>
            <p:cNvPicPr/>
            <p:nvPr/>
          </p:nvPicPr>
          <p:blipFill>
            <a:blip r:embed="rId1"/>
            <a:stretch/>
          </p:blipFill>
          <p:spPr>
            <a:xfrm>
              <a:off x="871560" y="-23760"/>
              <a:ext cx="72547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3" name=""/>
            <p:cNvSpPr/>
            <p:nvPr/>
          </p:nvSpPr>
          <p:spPr>
            <a:xfrm>
              <a:off x="990720" y="152280"/>
              <a:ext cx="701028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 </a:t>
              </a:r>
              <a:br>
                <a:rPr sz="3600"/>
              </a:br>
              <a:r>
                <a:rPr b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2- PROGESTERONE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 </a:t>
              </a:r>
              <a:br>
                <a:rPr sz="3600"/>
              </a:b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(Pro = before &amp; gestation = pregnancy)</a:t>
              </a:r>
              <a:br>
                <a:rPr sz="2400"/>
              </a:br>
              <a:br>
                <a:rPr sz="40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Rectangle 2"/>
          <p:cNvSpPr/>
          <p:nvPr/>
        </p:nvSpPr>
        <p:spPr>
          <a:xfrm>
            <a:off x="304920" y="125136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creted fro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orpus luteum, ovary, Placenta &amp; suprarenal cort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ynthesi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rogesterone i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teroid horm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eriv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holestero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Transpor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* 2% of plasma estrogen is fre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* Remaining: bound to albumin &amp; globu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 Black"/>
              <a:buChar char="•"/>
              <a:tabLst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M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tabolis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22860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 liver, progesterone is degraded in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regnendi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which conjugates to glucuronic acid and excreted in ur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5" name="Rectangle 2"/>
          <p:cNvGrpSpPr/>
          <p:nvPr/>
        </p:nvGrpSpPr>
        <p:grpSpPr>
          <a:xfrm>
            <a:off x="871560" y="-60480"/>
            <a:ext cx="7254720" cy="1444680"/>
            <a:chOff x="871560" y="-60480"/>
            <a:chExt cx="7254720" cy="1444680"/>
          </a:xfrm>
        </p:grpSpPr>
        <p:pic>
          <p:nvPicPr>
            <p:cNvPr id="1086" name="Rectangle 2" descr=""/>
            <p:cNvPicPr/>
            <p:nvPr/>
          </p:nvPicPr>
          <p:blipFill>
            <a:blip r:embed="rId1"/>
            <a:stretch/>
          </p:blipFill>
          <p:spPr>
            <a:xfrm>
              <a:off x="871560" y="-60480"/>
              <a:ext cx="72547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7" name=""/>
            <p:cNvSpPr/>
            <p:nvPr/>
          </p:nvSpPr>
          <p:spPr>
            <a:xfrm>
              <a:off x="990720" y="152280"/>
              <a:ext cx="7010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 </a:t>
              </a:r>
              <a:br>
                <a:rPr sz="3600"/>
              </a:br>
              <a:r>
                <a:rPr b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2- PROGESTERONE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 </a:t>
              </a:r>
              <a:br>
                <a:rPr sz="3600"/>
              </a:b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(Pro = before &amp; gestation = pregnancy)</a:t>
              </a:r>
              <a:br>
                <a:rPr sz="2400"/>
              </a:br>
              <a:br>
                <a:rPr sz="40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8" name="Rectangle 1"/>
          <p:cNvSpPr/>
          <p:nvPr/>
        </p:nvSpPr>
        <p:spPr>
          <a:xfrm>
            <a:off x="304920" y="1093320"/>
            <a:ext cx="85341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Mechanism of Ac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tero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ormo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1- On uterus: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sponsible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=luteal) phase of endometr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It changes stroma cells of endometrium in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cidual cells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(= formation of placenta)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c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Essential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mpla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fertilized ov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Hyperpolarization,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excitability of myometrium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pontaneous pacemaker potential 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ensitivity to oxytoc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terine relax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to maintain pregnanc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r" pos="5491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hibition of ov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(as in pregnancy amenorrhe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vi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ituitary gonadotropins secretion.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Rectangle 2"/>
          <p:cNvGrpSpPr/>
          <p:nvPr/>
        </p:nvGrpSpPr>
        <p:grpSpPr>
          <a:xfrm>
            <a:off x="871560" y="-60480"/>
            <a:ext cx="7254720" cy="1444680"/>
            <a:chOff x="871560" y="-60480"/>
            <a:chExt cx="7254720" cy="1444680"/>
          </a:xfrm>
        </p:grpSpPr>
        <p:pic>
          <p:nvPicPr>
            <p:cNvPr id="1090" name="Rectangle 2" descr=""/>
            <p:cNvPicPr/>
            <p:nvPr/>
          </p:nvPicPr>
          <p:blipFill>
            <a:blip r:embed="rId1"/>
            <a:stretch/>
          </p:blipFill>
          <p:spPr>
            <a:xfrm>
              <a:off x="871560" y="-60480"/>
              <a:ext cx="725472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990720" y="152280"/>
              <a:ext cx="701028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3600" spc="-1" strike="noStrike" u="sng">
                  <a:solidFill>
                    <a:srgbClr val="ffffcc"/>
                  </a:solidFill>
                  <a:uFillTx/>
                  <a:latin typeface="Times New Roman"/>
                </a:rPr>
                <a:t> </a:t>
              </a:r>
              <a:br>
                <a:rPr sz="3600"/>
              </a:br>
              <a:r>
                <a:rPr b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2- PROGESTERONE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Arial Black"/>
                  <a:ea typeface="Aharoni"/>
                </a:rPr>
                <a:t> </a:t>
              </a:r>
              <a:br>
                <a:rPr sz="3600"/>
              </a:br>
              <a:r>
                <a:rPr b="1" i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(Pro = before &amp; gestation = pregnancy)</a:t>
              </a:r>
              <a:br>
                <a:rPr sz="2400"/>
              </a:br>
              <a:br>
                <a:rPr sz="40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Rectangle 1"/>
          <p:cNvSpPr/>
          <p:nvPr/>
        </p:nvSpPr>
        <p:spPr>
          <a:xfrm>
            <a:off x="228600" y="966600"/>
            <a:ext cx="8534520" cy="58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2- On mammary gland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Growth of secretory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Alveoli &amp; lobul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3- On body temperatur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Basal body temperatu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by direct effect on hypothalamus or permissive action on thyroid horm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4- Metabolic effects: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01600"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large do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triures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blocking aldostrone ac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01600"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timulates respira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sitivity of respiratory center to CO</a:t>
            </a:r>
            <a:r>
              <a:rPr b="1" lang="en-US" sz="2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5- Behavioral effects: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01600" algn="r">
              <a:lnSpc>
                <a:spcPct val="13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tite 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 ga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pregnanc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201600"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esponsible for onset of maternal behav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4" name="" descr=""/>
          <p:cNvPicPr/>
          <p:nvPr/>
        </p:nvPicPr>
        <p:blipFill>
          <a:blip r:embed="rId1"/>
          <a:stretch/>
        </p:blipFill>
        <p:spPr>
          <a:xfrm>
            <a:off x="198360" y="2352600"/>
            <a:ext cx="8686800" cy="27813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2" descr="https://livingwellnessblog.files.wordpress.com/2013/10/progesterone-lining.png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198360" y="2352600"/>
            <a:ext cx="8686800" cy="27813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2" descr="http://natural-fertility-info.com/wp-content/uploads/mestrual1.jpg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2" descr="http://nongae.gsnu.ac.kr/~cspark/teaching/images/fig_4_5.gif"/>
          <p:cNvPicPr/>
          <p:nvPr/>
        </p:nvPicPr>
        <p:blipFill>
          <a:blip r:embed="rId1"/>
          <a:srcRect l="1812" t="0" r="0" b="3018"/>
          <a:stretch/>
        </p:blipFill>
        <p:spPr>
          <a:xfrm>
            <a:off x="152280" y="15228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2" descr="2014-12-05 16.17.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1" name="Picture 1" descr="11146200_962857803745216_6568834797423836935_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2" name="Rectangle 1"/>
          <p:cNvSpPr/>
          <p:nvPr/>
        </p:nvSpPr>
        <p:spPr>
          <a:xfrm>
            <a:off x="228600" y="7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العلم نور</a:t>
            </a:r>
            <a:r>
              <a:rPr b="1" i="1" lang="ar-SA" sz="3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r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Tahoma"/>
              </a:rPr>
              <a:t>ونور الله لا يهدى لعاص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Rectangle 2"/>
          <p:cNvGrpSpPr/>
          <p:nvPr/>
        </p:nvGrpSpPr>
        <p:grpSpPr>
          <a:xfrm>
            <a:off x="1481040" y="-36360"/>
            <a:ext cx="6340680" cy="1315800"/>
            <a:chOff x="1481040" y="-36360"/>
            <a:chExt cx="6340680" cy="1315800"/>
          </a:xfrm>
        </p:grpSpPr>
        <p:pic>
          <p:nvPicPr>
            <p:cNvPr id="1051" name="Rectangle 2" descr=""/>
            <p:cNvPicPr/>
            <p:nvPr/>
          </p:nvPicPr>
          <p:blipFill>
            <a:blip r:embed="rId1"/>
            <a:stretch/>
          </p:blipFill>
          <p:spPr>
            <a:xfrm>
              <a:off x="1481040" y="-36360"/>
              <a:ext cx="634068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2" name=""/>
            <p:cNvSpPr/>
            <p:nvPr/>
          </p:nvSpPr>
          <p:spPr>
            <a:xfrm>
              <a:off x="1600200" y="152280"/>
              <a:ext cx="60958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Arial"/>
                </a:rPr>
                <a:t>Lecture Objectiv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Enumerate ovarian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Explain the sources of estr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Describe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echanism of action of ovarian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he actions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estr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List 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metabolic effects of estr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Name the sources of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Describe the actions of progester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Enumerate the hormones secreted by plac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Rectangle 2"/>
          <p:cNvGrpSpPr/>
          <p:nvPr/>
        </p:nvGrpSpPr>
        <p:grpSpPr>
          <a:xfrm>
            <a:off x="1096920" y="6480"/>
            <a:ext cx="6950160" cy="2023920"/>
            <a:chOff x="1096920" y="6480"/>
            <a:chExt cx="6950160" cy="2023920"/>
          </a:xfrm>
        </p:grpSpPr>
        <p:pic>
          <p:nvPicPr>
            <p:cNvPr id="1055" name="Rectangle 2" descr=""/>
            <p:cNvPicPr/>
            <p:nvPr/>
          </p:nvPicPr>
          <p:blipFill>
            <a:blip r:embed="rId1"/>
            <a:stretch/>
          </p:blipFill>
          <p:spPr>
            <a:xfrm>
              <a:off x="1096920" y="6480"/>
              <a:ext cx="695016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"/>
            <p:cNvSpPr/>
            <p:nvPr/>
          </p:nvSpPr>
          <p:spPr>
            <a:xfrm>
              <a:off x="1219320" y="228600"/>
              <a:ext cx="670536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900"/>
              </a:br>
              <a:r>
                <a:rPr b="1" lang="en-US" sz="44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OVARIAN HORMONES</a:t>
              </a:r>
              <a:br>
                <a:rPr sz="4400"/>
              </a:br>
              <a:r>
                <a:rPr b="1" lang="en-US" sz="44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1- ESTROGENS</a:t>
              </a:r>
              <a:br>
                <a:rPr sz="32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7" name="Rectangle 6"/>
          <p:cNvSpPr/>
          <p:nvPr/>
        </p:nvSpPr>
        <p:spPr>
          <a:xfrm>
            <a:off x="380880" y="1775520"/>
            <a:ext cx="84582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ecreted fro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1- Ovarie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by theca interna, granulosa cells and corpus lute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2- Placenta.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3- Suprarenal cortex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ype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teroid hormones of 3 types 17-β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stradio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(most potent)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strone &amp; estri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ransport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2% of plasma estrogen is free &amp; Remaining is bound t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globul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mai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Rectangle 2"/>
          <p:cNvGrpSpPr/>
          <p:nvPr/>
        </p:nvGrpSpPr>
        <p:grpSpPr>
          <a:xfrm>
            <a:off x="1785960" y="66600"/>
            <a:ext cx="5730840" cy="1414440"/>
            <a:chOff x="1785960" y="66600"/>
            <a:chExt cx="5730840" cy="1414440"/>
          </a:xfrm>
        </p:grpSpPr>
        <p:pic>
          <p:nvPicPr>
            <p:cNvPr id="1059" name="Rectangle 2" descr=""/>
            <p:cNvPicPr/>
            <p:nvPr/>
          </p:nvPicPr>
          <p:blipFill>
            <a:blip r:embed="rId1"/>
            <a:stretch/>
          </p:blipFill>
          <p:spPr>
            <a:xfrm>
              <a:off x="1785960" y="66600"/>
              <a:ext cx="57308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0" name=""/>
            <p:cNvSpPr/>
            <p:nvPr/>
          </p:nvSpPr>
          <p:spPr>
            <a:xfrm>
              <a:off x="1905120" y="228600"/>
              <a:ext cx="54864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4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ESTROGENS</a:t>
              </a:r>
              <a:br>
                <a:rPr sz="32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Rectangle 1"/>
          <p:cNvSpPr/>
          <p:nvPr/>
        </p:nvSpPr>
        <p:spPr>
          <a:xfrm>
            <a:off x="228600" y="845640"/>
            <a:ext cx="853452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strogen secretion has 2 peaks: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1- At time of ovulation.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2- Mid-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uteal phase (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ess than preovulatory peak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 Black"/>
              <a:buChar char="•"/>
              <a:tabLst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M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chanism of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A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ction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As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teroid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, estrogen combines with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cytoplasmic receptor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complex which enter nucleu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mRNA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new protein forma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its ac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 Black"/>
              <a:buChar char="•"/>
              <a:tabLst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A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(A) In embryonic life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: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full development of uterus and vagin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6300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(B) Pre-pubertal effect: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Low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Estrogens has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strong -ve feedback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SimSun"/>
              </a:rPr>
              <a:t> effect on FSH &amp; LH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Rectangle 2"/>
          <p:cNvGrpSpPr/>
          <p:nvPr/>
        </p:nvGrpSpPr>
        <p:grpSpPr>
          <a:xfrm>
            <a:off x="1785960" y="103320"/>
            <a:ext cx="5730840" cy="1420560"/>
            <a:chOff x="1785960" y="103320"/>
            <a:chExt cx="5730840" cy="1420560"/>
          </a:xfrm>
        </p:grpSpPr>
        <p:pic>
          <p:nvPicPr>
            <p:cNvPr id="1063" name="Rectangle 2" descr=""/>
            <p:cNvPicPr/>
            <p:nvPr/>
          </p:nvPicPr>
          <p:blipFill>
            <a:blip r:embed="rId1"/>
            <a:stretch/>
          </p:blipFill>
          <p:spPr>
            <a:xfrm>
              <a:off x="1785960" y="103320"/>
              <a:ext cx="57308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1905120" y="228600"/>
              <a:ext cx="54864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4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ESTROGENS</a:t>
              </a:r>
              <a:br>
                <a:rPr sz="3200"/>
              </a:b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1"/>
          <p:cNvSpPr/>
          <p:nvPr/>
        </p:nvSpPr>
        <p:spPr>
          <a:xfrm>
            <a:off x="304920" y="1089000"/>
            <a:ext cx="8610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(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C) At puberty (in non-pregnant adult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*On 1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 Black"/>
                <a:ea typeface="SimSun"/>
              </a:rPr>
              <a:t>r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 sex organs (Ovaries)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- Growth &amp; maturation of ovarian foll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- Essential for ovulation &amp; corpus luteum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*On 2</a:t>
            </a:r>
            <a:r>
              <a:rPr b="0" lang="en-US" sz="2800" spc="-1" strike="noStrike" u="sng" baseline="30000">
                <a:solidFill>
                  <a:srgbClr val="000000"/>
                </a:solidFill>
                <a:uFillTx/>
                <a:latin typeface="Arial Black"/>
                <a:ea typeface="SimSun"/>
              </a:rPr>
              <a:t>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sex organs: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r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- Estroge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stimul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growth of sex orga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(uterus, tubes, vagina and external organ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exce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SimSun"/>
              </a:rPr>
              <a:t> clitori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Rectangle 2"/>
          <p:cNvGrpSpPr/>
          <p:nvPr/>
        </p:nvGrpSpPr>
        <p:grpSpPr>
          <a:xfrm>
            <a:off x="2852640" y="6480"/>
            <a:ext cx="3975120" cy="1315800"/>
            <a:chOff x="2852640" y="6480"/>
            <a:chExt cx="3975120" cy="1315800"/>
          </a:xfrm>
        </p:grpSpPr>
        <p:pic>
          <p:nvPicPr>
            <p:cNvPr id="1067" name="Rectangle 2" descr=""/>
            <p:cNvPicPr/>
            <p:nvPr/>
          </p:nvPicPr>
          <p:blipFill>
            <a:blip r:embed="rId1"/>
            <a:stretch/>
          </p:blipFill>
          <p:spPr>
            <a:xfrm>
              <a:off x="2852640" y="6480"/>
              <a:ext cx="397512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"/>
            <p:cNvSpPr/>
            <p:nvPr/>
          </p:nvSpPr>
          <p:spPr>
            <a:xfrm>
              <a:off x="2971800" y="152280"/>
              <a:ext cx="3733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0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ESTROGENS</a:t>
              </a:r>
              <a:br>
                <a:rPr sz="36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Rectangle 1"/>
          <p:cNvSpPr/>
          <p:nvPr/>
        </p:nvSpPr>
        <p:spPr>
          <a:xfrm>
            <a:off x="228600" y="717120"/>
            <a:ext cx="8686800" cy="63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1- On uteru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rogens stimul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dometri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lif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yometri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pregnanc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owth of smooth muscle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ood flow,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tinomyosin content 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nsitivity to action of oxyto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Times New Roman"/>
              <a:buChar char="-"/>
              <a:tabLst>
                <a:tab algn="r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lity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llopian tub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2- On cervix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Times New Roman"/>
              <a:buChar char="-"/>
              <a:tabLst>
                <a:tab algn="r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strog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in, watery and alkaline muc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ecretion (promotes survival of sperm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- On vagin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yperemia of vaginal epithelium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ycog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position &amp;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ctic ac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cretion as a protection against infe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Rectangle 2"/>
          <p:cNvGrpSpPr/>
          <p:nvPr/>
        </p:nvGrpSpPr>
        <p:grpSpPr>
          <a:xfrm>
            <a:off x="2852640" y="-12600"/>
            <a:ext cx="3975120" cy="1311120"/>
            <a:chOff x="2852640" y="-12600"/>
            <a:chExt cx="3975120" cy="1311120"/>
          </a:xfrm>
        </p:grpSpPr>
        <p:pic>
          <p:nvPicPr>
            <p:cNvPr id="1071" name="Rectangle 2" descr=""/>
            <p:cNvPicPr/>
            <p:nvPr/>
          </p:nvPicPr>
          <p:blipFill>
            <a:blip r:embed="rId1"/>
            <a:stretch/>
          </p:blipFill>
          <p:spPr>
            <a:xfrm>
              <a:off x="2852640" y="-12600"/>
              <a:ext cx="39751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2971800" y="152280"/>
              <a:ext cx="3733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0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ESTROGENS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1"/>
          <p:cNvSpPr/>
          <p:nvPr/>
        </p:nvSpPr>
        <p:spPr>
          <a:xfrm>
            <a:off x="228600" y="1071360"/>
            <a:ext cx="861048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*On female 2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Arial Black"/>
                <a:ea typeface="SimSun"/>
              </a:rPr>
              <a:t>ry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sex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1- On mammary gland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velopment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u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&amp; nipple and breast enlarg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00"/>
              </a:buClr>
              <a:buFont typeface="Wingdings" charset="2"/>
              <a:buChar char=""/>
              <a:tabLst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Blood fl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&amp; stroma of breast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reolar pigm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uring pregn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2- On body configuration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emin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body (wide pelvis &amp; narrow should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Femin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istribution of f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3- On voice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strogens don’t stimulate growth of vocal cor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high pitched v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ahoma"/>
                <a:ea typeface="SimSun"/>
              </a:rPr>
              <a:t>4- On hair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*Less body hair &amp; more scalp 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45072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*Pubic hair has a straight upper b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Rectangle 2"/>
          <p:cNvGrpSpPr/>
          <p:nvPr/>
        </p:nvGrpSpPr>
        <p:grpSpPr>
          <a:xfrm>
            <a:off x="2852640" y="-12600"/>
            <a:ext cx="3975120" cy="1311120"/>
            <a:chOff x="2852640" y="-12600"/>
            <a:chExt cx="3975120" cy="1311120"/>
          </a:xfrm>
        </p:grpSpPr>
        <p:pic>
          <p:nvPicPr>
            <p:cNvPr id="1075" name="Rectangle 2" descr=""/>
            <p:cNvPicPr/>
            <p:nvPr/>
          </p:nvPicPr>
          <p:blipFill>
            <a:blip r:embed="rId1"/>
            <a:stretch/>
          </p:blipFill>
          <p:spPr>
            <a:xfrm>
              <a:off x="2852640" y="-12600"/>
              <a:ext cx="397512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2971800" y="152280"/>
              <a:ext cx="3733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4400"/>
              </a:br>
              <a:r>
                <a:rPr b="1" lang="en-US" sz="4000" spc="-1" strike="noStrike">
                  <a:solidFill>
                    <a:srgbClr val="ffff00"/>
                  </a:solidFill>
                  <a:latin typeface="Aharoni"/>
                  <a:ea typeface="Aharoni"/>
                </a:rPr>
                <a:t>ESTROGENS</a:t>
              </a:r>
              <a:br>
                <a:rPr sz="4000"/>
              </a:b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Rectangle 1"/>
          <p:cNvSpPr/>
          <p:nvPr/>
        </p:nvSpPr>
        <p:spPr>
          <a:xfrm>
            <a:off x="304920" y="991440"/>
            <a:ext cx="85341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 Black"/>
                <a:ea typeface="SimSun"/>
              </a:rPr>
              <a:t>Metabolic effects of estroge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il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SimSu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nabo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SimSu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tention of Ca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&amp; PO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maturation of ossification centers &amp;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union of epiph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rapid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shorter fem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SimSu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ten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Na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SimSun"/>
              </a:rPr>
              <a:t>+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&amp; H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→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re-menstrual ten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  <a:ea typeface="SimSu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ainst atherosclero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&amp; coronary diseas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ue 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Plasma cholesterol lowering eff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. However, synthetic estrogen doesn't protect from coronary diseases because it alters hepatic production of clotting factors and promote thromb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9800" y="434880"/>
            <a:ext cx="8762760" cy="50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66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198360" y="2352600"/>
            <a:ext cx="8686800" cy="27813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2" descr="http://faculty.southwest.tn.edu/rburkett/repro_24.jpg"/>
          <p:cNvPicPr/>
          <p:nvPr/>
        </p:nvPicPr>
        <p:blipFill>
          <a:blip r:embed="rId2"/>
          <a:srcRect l="0" t="2191" r="0" b="0"/>
          <a:stretch/>
        </p:blipFill>
        <p:spPr>
          <a:xfrm>
            <a:off x="152280" y="291960"/>
            <a:ext cx="8839440" cy="626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20:15:10Z</dcterms:created>
  <dc:creator>User</dc:creator>
  <dc:description/>
  <dc:language>en-US</dc:language>
  <cp:lastModifiedBy>Hani Mohammed</cp:lastModifiedBy>
  <dcterms:modified xsi:type="dcterms:W3CDTF">2016-03-30T06:26:49Z</dcterms:modified>
  <cp:revision>84</cp:revision>
  <dc:subject/>
  <dc:title>Slide 1</dc:title>
</cp:coreProperties>
</file>